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4F9-5F0C-44FB-B6CC-0A0247F5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78D-3302-413A-9832-327424D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B20E8-9D50-457B-A83D-4DC7F83D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BB9DD-D95E-4789-9CD0-31DA0E76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CE8C4-5F47-41E8-BFB1-B54E4A1D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A75FF-1CBD-4004-AF48-F18652CA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6FEDE-2C98-40B3-9CB8-3392051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10EF9-C063-42EE-92DD-81C3E764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ED63F-8D24-4FA5-A426-AED8377F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3E64C-3EB8-46C9-A327-EF936969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9FB36-6B96-40F2-A530-ED779B25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4DD06-B7FF-4981-B326-10AE7D01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ABA-6DFA-4731-B330-BAE44948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8E227-80D1-49F9-A4AC-B48E018A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CDC64-7F06-43D2-943C-19E8B14F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488C9-3FFA-4AC3-BB76-6F5577BB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55F09-5FC6-4BB4-95FD-B5B0B0C9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5BBA8-E142-4C23-9EEB-53E9E105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DB9AF-51DC-4CF9-818D-15C6F37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A9F31-028B-4EDB-A804-86F36E00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CF18C-92E2-44AB-9F2C-AB14692B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3EEC5-A8D7-48E8-9576-CEA874B7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5B8C3-3F3B-479C-BAFC-120484AF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DA9-77F0-403F-9DD9-915ECA87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54AF0-8A2C-402D-BB60-013082DF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C021F-7F0A-468B-9856-7DC9A2A4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3287-0D26-45AE-97CD-0650B173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75EA3-3B84-4CDE-8D15-BCC2DACE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E4099-41F0-4168-98D4-DBC24467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DA88F-229B-4200-B0C7-1362540F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1AC86-2914-48C7-91B7-F8A5E491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21299-99C0-47E1-92F1-E1D6AC6A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9B7D0-93E8-41DA-96F5-205CF00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F17FE-84F2-4D9B-A502-5270EEB1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7104-F45C-4F7A-AE37-51483DC3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DDA3A-7842-430D-BF81-C2AAF2AB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A158E-2001-4816-88F5-8713A207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A63F8-0DC6-4E3A-8CAC-D2FC67F6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E54A-575D-47AD-A4D4-D3FE4C6B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2097-35A5-4423-804A-4CDB68BB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7625-1490-495C-ACE8-BC61F412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4399-B9A0-44EA-BDD4-81D012A6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24E3-11A8-40DA-9801-D4A72156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A514-354E-46DE-BBE0-9C3682E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EEE-E6DC-41C9-B904-D5CC4626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E65C-1BA7-4F00-BE6D-00A58A6B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FA49-CE64-4E41-8602-B1E99D87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6CC6-5865-4B3E-8609-531E81A8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9272-A01C-4704-8F0A-237BCCE3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8D7B-0A62-45B8-A3E3-B0D6DB11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7C460-025E-4A1F-8F04-271C6DF9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6EF5-49D4-41B9-9302-69C6129C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ACF4-6440-43A4-BD0D-838E665E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23FD-4296-405F-BE4B-47DA1BB2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7841-E3C0-485D-8267-64BC7228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F99-3A70-4DD8-B559-66532D33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FD1D-17BC-461D-9A58-708239AF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273F-1BB0-42ED-B9EF-839C0C96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084F-8EEF-49CF-B0DF-01D034AD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81AB-8346-41FA-8625-82AC07F9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5D04-435C-43F6-8401-C7FFF53A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8B44-CA11-4406-8E5B-2AC45A5A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076F0-A6D8-41A8-9E1A-543DC4B5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EA1F3-24DD-41D0-992C-191C9C4F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57D3-475B-423D-8DF8-6716B020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FDE9-0AC5-4DA3-9EFA-92485033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0F7-198B-4576-8023-7A852735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8ACD-E0EE-4F8A-A41B-8849215C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3E2A-6F8B-43BA-AE7A-2DFB5956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003B0-56A8-42B4-8CC2-15F8490A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88CF-4312-4709-9A27-B2A09A53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C884-B452-425C-A54F-09914C7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69765-F41B-4526-8EEA-B466A872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EC79F-FA0A-4C57-A62F-A9CD30A0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C357-B211-4EE1-A220-6F21B944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3D68-7EF6-4B57-9F0D-A5B0E11F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6CDD-8F35-464A-A688-C4B9718A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975-1541-4A56-9030-0D2DB2E9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69DD-333B-4512-9F5F-2A78BE8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40C82-1B22-484E-A667-EFED92D6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42F6-5EB6-41E0-91F6-15B39397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1C1BE-8963-43DA-B158-85D7FA1E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FC91-E708-44FE-96FE-4CCB87AA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3FB71-EC75-49A2-8DA5-223065DD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596FE-6A47-43EC-8A9D-CC91461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536BF-B091-4AC0-BD66-3F89D4CC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C2B6-70D5-442E-B7CD-CCC236C1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6A0AE-D67A-4BA6-9B19-93A59A0F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448-88DB-421B-93B7-0FA1271C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721F-E3EE-4DA8-87BF-1659A112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3226B-616B-4EE4-8CC1-635739A2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EE27A-6713-41B0-BAC5-3D0C851D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6656A-4CD6-4D00-AB9F-D44911F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31D6D-29BB-478A-9FA1-E7A3C262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D17EC-7FD2-44DB-A717-E10FB371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E1F7-6CB4-4027-B2F1-7082C69D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B7F19-1CFD-47F3-ACFD-108B105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0487B-FD79-49D6-9C2C-3B537D9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D49BE-371C-4A5E-BDA8-FCEA33D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236-6FB0-4242-BCC6-D74CD3F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615D1-B9C2-4788-A948-64348CC9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4D9EE-92D3-461F-99C1-E6D1F3CE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7667-6F2E-47AE-BB06-BF04A297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851BB-5EE8-4F82-B257-4DB4B3ED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50950-435F-4589-ABFF-3396302B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85E57-3836-4F85-9636-24C74D86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18F9F-C2FB-4958-970F-D3152A5D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98867-F698-4043-B95F-D0B5944A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0CE7A-814C-4D00-84B1-10DD9484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F50B1-391C-4513-8BBA-E9BA31F0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7F7-C85C-446E-A110-0BCC82BB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D6FF8-1D4C-47FF-9065-DDADD095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64B1F-3701-46BE-BE74-C039E1C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6D99F-0250-43CB-95FF-5E9AB5B2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98B86-36B9-4152-85C3-B4834B0A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1A57E-CEB8-4E63-9DF2-49B050BE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FF37B-9DB4-4558-9F3B-7E32D9F1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4015C-CBD3-4BD5-A5B9-681F1B56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AEC55-96FC-43D4-A20D-9A332E90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EC688-A703-4620-A1A8-13015451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811DB-E1AD-4240-94C3-103EC998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BD1-83F8-4FC9-A35C-37145635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D97CE-7755-4EBD-86CC-9A7D81AC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0352-8FE6-4BD6-8DD6-C74DE12D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331E1-C9A3-4673-AEB9-89AC1C6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C052D-9440-4FEC-B872-D003A561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21CCB-E0F2-4067-8874-D31F0C5D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66F0-069C-4960-80DF-71F8E205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81B1E-5A10-4CA2-B1FF-FFE0C892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C344A-AE0D-4B4C-9824-67D4C602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07A84-EED5-4B09-8ED3-5618A737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95F4E-047C-44A7-B9A7-EC7A96B3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46A0-A257-4493-ABC6-34523ED594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A657-5FE1-456F-91CA-F30AF2FD5B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8D12-0B79-48AE-81E2-C9A6AA6C0B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30BA-CD7B-4233-B51A-F7300DEE42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3384-B0DC-46BC-9FF4-C019EA46EAA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75D1-8E4F-454E-B14E-4BFE9663E1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 flipH="1">
            <a:off x="4005360" y="0"/>
            <a:ext cx="1976400" cy="2840040"/>
          </a:xfrm>
          <a:custGeom>
            <a:avLst/>
            <a:gdLst/>
            <a:ahLst/>
            <a:rect l="l" t="t" r="r" b="b"/>
            <a:pathLst>
              <a:path w="2802" h="2951">
                <a:moveTo>
                  <a:pt x="0" y="1673"/>
                </a:moveTo>
                <a:lnTo>
                  <a:pt x="2802" y="2951"/>
                </a:lnTo>
                <a:lnTo>
                  <a:pt x="1743" y="0"/>
                </a:lnTo>
                <a:lnTo>
                  <a:pt x="1390" y="0"/>
                </a:lnTo>
                <a:lnTo>
                  <a:pt x="0" y="1673"/>
                </a:lnTo>
                <a:close/>
              </a:path>
            </a:pathLst>
          </a:custGeom>
          <a:solidFill>
            <a:srgbClr val="48b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"/>
          <p:cNvSpPr/>
          <p:nvPr/>
        </p:nvSpPr>
        <p:spPr>
          <a:xfrm flipH="1">
            <a:off x="4005360" y="1611360"/>
            <a:ext cx="5138640" cy="5246640"/>
          </a:xfrm>
          <a:custGeom>
            <a:avLst/>
            <a:gdLst/>
            <a:ahLst/>
            <a:rect l="l" t="t" r="r" b="b"/>
            <a:pathLst>
              <a:path w="7285" h="5451">
                <a:moveTo>
                  <a:pt x="4483" y="0"/>
                </a:moveTo>
                <a:lnTo>
                  <a:pt x="219" y="5125"/>
                </a:lnTo>
                <a:lnTo>
                  <a:pt x="0" y="5389"/>
                </a:lnTo>
                <a:lnTo>
                  <a:pt x="0" y="5451"/>
                </a:lnTo>
                <a:lnTo>
                  <a:pt x="5575" y="5451"/>
                </a:lnTo>
                <a:lnTo>
                  <a:pt x="5709" y="5125"/>
                </a:lnTo>
                <a:lnTo>
                  <a:pt x="7285" y="1278"/>
                </a:lnTo>
                <a:lnTo>
                  <a:pt x="4483" y="0"/>
                </a:lnTo>
                <a:close/>
              </a:path>
            </a:pathLst>
          </a:custGeom>
          <a:solidFill>
            <a:srgbClr val="38a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 flipH="1">
            <a:off x="5000760" y="0"/>
            <a:ext cx="3566880" cy="1611360"/>
          </a:xfrm>
          <a:custGeom>
            <a:avLst/>
            <a:gdLst/>
            <a:ahLst/>
            <a:rect l="l" t="t" r="r" b="b"/>
            <a:pathLst>
              <a:path w="5055" h="1673">
                <a:moveTo>
                  <a:pt x="3665" y="1673"/>
                </a:moveTo>
                <a:lnTo>
                  <a:pt x="5055" y="0"/>
                </a:lnTo>
                <a:lnTo>
                  <a:pt x="0" y="0"/>
                </a:lnTo>
                <a:lnTo>
                  <a:pt x="3665" y="1673"/>
                </a:lnTo>
                <a:close/>
              </a:path>
            </a:pathLst>
          </a:custGeom>
          <a:solidFill>
            <a:srgbClr val="38a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 flipH="1">
            <a:off x="5981760" y="0"/>
            <a:ext cx="3162240" cy="6797520"/>
          </a:xfrm>
          <a:custGeom>
            <a:avLst/>
            <a:gdLst/>
            <a:ahLst/>
            <a:rect l="l" t="t" r="r" b="b"/>
            <a:pathLst>
              <a:path w="4483" h="7062">
                <a:moveTo>
                  <a:pt x="818" y="0"/>
                </a:moveTo>
                <a:lnTo>
                  <a:pt x="0" y="0"/>
                </a:lnTo>
                <a:lnTo>
                  <a:pt x="0" y="6798"/>
                </a:lnTo>
                <a:lnTo>
                  <a:pt x="0" y="7062"/>
                </a:lnTo>
                <a:lnTo>
                  <a:pt x="219" y="6798"/>
                </a:lnTo>
                <a:lnTo>
                  <a:pt x="4483" y="1673"/>
                </a:lnTo>
                <a:lnTo>
                  <a:pt x="818" y="0"/>
                </a:lnTo>
                <a:close/>
              </a:path>
            </a:pathLst>
          </a:custGeom>
          <a:solidFill>
            <a:srgbClr val="319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A6B-2831-43D6-A4FF-EAF4F3F7E3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2FDB-4A3B-45E9-A608-08C7F7C40E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B3AA-E946-422D-B54F-F8776FA7D4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5D65-80B3-4285-AF60-9CF7F99AEE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"/>
          <p:cNvSpPr/>
          <p:nvPr/>
        </p:nvSpPr>
        <p:spPr>
          <a:xfrm flipH="1">
            <a:off x="4005360" y="0"/>
            <a:ext cx="1976400" cy="2840040"/>
          </a:xfrm>
          <a:custGeom>
            <a:avLst/>
            <a:gdLst/>
            <a:ahLst/>
            <a:rect l="l" t="t" r="r" b="b"/>
            <a:pathLst>
              <a:path w="2802" h="2951">
                <a:moveTo>
                  <a:pt x="0" y="1673"/>
                </a:moveTo>
                <a:lnTo>
                  <a:pt x="2802" y="2951"/>
                </a:lnTo>
                <a:lnTo>
                  <a:pt x="1743" y="0"/>
                </a:lnTo>
                <a:lnTo>
                  <a:pt x="1390" y="0"/>
                </a:lnTo>
                <a:lnTo>
                  <a:pt x="0" y="1673"/>
                </a:lnTo>
                <a:close/>
              </a:path>
            </a:pathLst>
          </a:custGeom>
          <a:solidFill>
            <a:srgbClr val="48b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6"/>
          <p:cNvSpPr/>
          <p:nvPr/>
        </p:nvSpPr>
        <p:spPr>
          <a:xfrm flipH="1">
            <a:off x="4005360" y="1611360"/>
            <a:ext cx="5138640" cy="5246640"/>
          </a:xfrm>
          <a:custGeom>
            <a:avLst/>
            <a:gdLst/>
            <a:ahLst/>
            <a:rect l="l" t="t" r="r" b="b"/>
            <a:pathLst>
              <a:path w="7285" h="5451">
                <a:moveTo>
                  <a:pt x="4483" y="0"/>
                </a:moveTo>
                <a:lnTo>
                  <a:pt x="219" y="5125"/>
                </a:lnTo>
                <a:lnTo>
                  <a:pt x="0" y="5389"/>
                </a:lnTo>
                <a:lnTo>
                  <a:pt x="0" y="5451"/>
                </a:lnTo>
                <a:lnTo>
                  <a:pt x="5575" y="5451"/>
                </a:lnTo>
                <a:lnTo>
                  <a:pt x="5709" y="5125"/>
                </a:lnTo>
                <a:lnTo>
                  <a:pt x="7285" y="1278"/>
                </a:lnTo>
                <a:lnTo>
                  <a:pt x="4483" y="0"/>
                </a:lnTo>
                <a:close/>
              </a:path>
            </a:pathLst>
          </a:custGeom>
          <a:solidFill>
            <a:srgbClr val="38a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 flipH="1">
            <a:off x="5000760" y="0"/>
            <a:ext cx="3566880" cy="1611360"/>
          </a:xfrm>
          <a:custGeom>
            <a:avLst/>
            <a:gdLst/>
            <a:ahLst/>
            <a:rect l="l" t="t" r="r" b="b"/>
            <a:pathLst>
              <a:path w="5055" h="1673">
                <a:moveTo>
                  <a:pt x="3665" y="1673"/>
                </a:moveTo>
                <a:lnTo>
                  <a:pt x="5055" y="0"/>
                </a:lnTo>
                <a:lnTo>
                  <a:pt x="0" y="0"/>
                </a:lnTo>
                <a:lnTo>
                  <a:pt x="3665" y="1673"/>
                </a:lnTo>
                <a:close/>
              </a:path>
            </a:pathLst>
          </a:custGeom>
          <a:solidFill>
            <a:srgbClr val="38a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8"/>
          <p:cNvSpPr/>
          <p:nvPr/>
        </p:nvSpPr>
        <p:spPr>
          <a:xfrm flipH="1">
            <a:off x="5981760" y="0"/>
            <a:ext cx="3162240" cy="6797520"/>
          </a:xfrm>
          <a:custGeom>
            <a:avLst/>
            <a:gdLst/>
            <a:ahLst/>
            <a:rect l="l" t="t" r="r" b="b"/>
            <a:pathLst>
              <a:path w="4483" h="7062">
                <a:moveTo>
                  <a:pt x="818" y="0"/>
                </a:moveTo>
                <a:lnTo>
                  <a:pt x="0" y="0"/>
                </a:lnTo>
                <a:lnTo>
                  <a:pt x="0" y="6798"/>
                </a:lnTo>
                <a:lnTo>
                  <a:pt x="0" y="7062"/>
                </a:lnTo>
                <a:lnTo>
                  <a:pt x="219" y="6798"/>
                </a:lnTo>
                <a:lnTo>
                  <a:pt x="4483" y="1673"/>
                </a:lnTo>
                <a:lnTo>
                  <a:pt x="818" y="0"/>
                </a:lnTo>
                <a:close/>
              </a:path>
            </a:pathLst>
          </a:custGeom>
          <a:solidFill>
            <a:srgbClr val="319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08C8-28A0-4E97-9387-33424546FF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ECDE-3320-439B-B417-159F236B2D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354F-9532-4938-A90F-07255CD1BC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9C2-0BCE-4F98-BE2A-B4A000ADE8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E99D-E126-4CCA-98C2-21779511AE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AC91-F558-475B-977C-539424936E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5"/>
          <p:cNvSpPr/>
          <p:nvPr/>
        </p:nvSpPr>
        <p:spPr>
          <a:xfrm flipH="1">
            <a:off x="4005360" y="0"/>
            <a:ext cx="1976400" cy="2840040"/>
          </a:xfrm>
          <a:custGeom>
            <a:avLst/>
            <a:gdLst/>
            <a:ahLst/>
            <a:rect l="l" t="t" r="r" b="b"/>
            <a:pathLst>
              <a:path w="2802" h="2951">
                <a:moveTo>
                  <a:pt x="0" y="1673"/>
                </a:moveTo>
                <a:lnTo>
                  <a:pt x="2802" y="2951"/>
                </a:lnTo>
                <a:lnTo>
                  <a:pt x="1743" y="0"/>
                </a:lnTo>
                <a:lnTo>
                  <a:pt x="1390" y="0"/>
                </a:lnTo>
                <a:lnTo>
                  <a:pt x="0" y="1673"/>
                </a:lnTo>
                <a:close/>
              </a:path>
            </a:pathLst>
          </a:custGeom>
          <a:solidFill>
            <a:srgbClr val="48b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6"/>
          <p:cNvSpPr/>
          <p:nvPr/>
        </p:nvSpPr>
        <p:spPr>
          <a:xfrm flipH="1">
            <a:off x="4005360" y="1611360"/>
            <a:ext cx="5138640" cy="5246640"/>
          </a:xfrm>
          <a:custGeom>
            <a:avLst/>
            <a:gdLst/>
            <a:ahLst/>
            <a:rect l="l" t="t" r="r" b="b"/>
            <a:pathLst>
              <a:path w="7285" h="5451">
                <a:moveTo>
                  <a:pt x="4483" y="0"/>
                </a:moveTo>
                <a:lnTo>
                  <a:pt x="219" y="5125"/>
                </a:lnTo>
                <a:lnTo>
                  <a:pt x="0" y="5389"/>
                </a:lnTo>
                <a:lnTo>
                  <a:pt x="0" y="5451"/>
                </a:lnTo>
                <a:lnTo>
                  <a:pt x="5575" y="5451"/>
                </a:lnTo>
                <a:lnTo>
                  <a:pt x="5709" y="5125"/>
                </a:lnTo>
                <a:lnTo>
                  <a:pt x="7285" y="1278"/>
                </a:lnTo>
                <a:lnTo>
                  <a:pt x="4483" y="0"/>
                </a:lnTo>
                <a:close/>
              </a:path>
            </a:pathLst>
          </a:custGeom>
          <a:solidFill>
            <a:srgbClr val="38a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 flipH="1">
            <a:off x="5000760" y="0"/>
            <a:ext cx="3566880" cy="1611360"/>
          </a:xfrm>
          <a:custGeom>
            <a:avLst/>
            <a:gdLst/>
            <a:ahLst/>
            <a:rect l="l" t="t" r="r" b="b"/>
            <a:pathLst>
              <a:path w="5055" h="1673">
                <a:moveTo>
                  <a:pt x="3665" y="1673"/>
                </a:moveTo>
                <a:lnTo>
                  <a:pt x="5055" y="0"/>
                </a:lnTo>
                <a:lnTo>
                  <a:pt x="0" y="0"/>
                </a:lnTo>
                <a:lnTo>
                  <a:pt x="3665" y="1673"/>
                </a:lnTo>
                <a:close/>
              </a:path>
            </a:pathLst>
          </a:custGeom>
          <a:solidFill>
            <a:srgbClr val="38a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8"/>
          <p:cNvSpPr/>
          <p:nvPr/>
        </p:nvSpPr>
        <p:spPr>
          <a:xfrm flipH="1">
            <a:off x="5981760" y="0"/>
            <a:ext cx="3162240" cy="6797520"/>
          </a:xfrm>
          <a:custGeom>
            <a:avLst/>
            <a:gdLst/>
            <a:ahLst/>
            <a:rect l="l" t="t" r="r" b="b"/>
            <a:pathLst>
              <a:path w="4483" h="7062">
                <a:moveTo>
                  <a:pt x="818" y="0"/>
                </a:moveTo>
                <a:lnTo>
                  <a:pt x="0" y="0"/>
                </a:lnTo>
                <a:lnTo>
                  <a:pt x="0" y="6798"/>
                </a:lnTo>
                <a:lnTo>
                  <a:pt x="0" y="7062"/>
                </a:lnTo>
                <a:lnTo>
                  <a:pt x="219" y="6798"/>
                </a:lnTo>
                <a:lnTo>
                  <a:pt x="4483" y="1673"/>
                </a:lnTo>
                <a:lnTo>
                  <a:pt x="818" y="0"/>
                </a:lnTo>
                <a:close/>
              </a:path>
            </a:pathLst>
          </a:custGeom>
          <a:solidFill>
            <a:srgbClr val="319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89D9-F0D5-4D38-AB3B-8F45E7CA8E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C647-76CE-45A2-A963-6C86C62AFB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CEC1-18F2-4E14-B982-8C8618021C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B84D-C536-4072-89D6-92FEB0D54C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8a39a"/>
          </a:solidFill>
          <a:ln w="12600">
            <a:solidFill>
              <a:srgbClr val="267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C376-EE74-4C91-8679-515CFE377C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F4F-51CC-4200-86BE-CD5767F659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2018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年工商管理硕士研究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答辩秘书培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 219"/>
          <p:cNvSpPr/>
          <p:nvPr/>
        </p:nvSpPr>
        <p:spPr>
          <a:xfrm>
            <a:off x="1133640" y="1844640"/>
            <a:ext cx="5222880" cy="749160"/>
          </a:xfrm>
          <a:prstGeom prst="roundRect">
            <a:avLst>
              <a:gd name="adj" fmla="val 50000"/>
            </a:avLst>
          </a:prstGeom>
          <a:solidFill>
            <a:srgbClr val="38a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、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答辩会议前期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 219"/>
          <p:cNvSpPr/>
          <p:nvPr/>
        </p:nvSpPr>
        <p:spPr>
          <a:xfrm>
            <a:off x="1082520" y="3006720"/>
            <a:ext cx="5221440" cy="749160"/>
          </a:xfrm>
          <a:prstGeom prst="roundRect">
            <a:avLst>
              <a:gd name="adj" fmla="val 50000"/>
            </a:avLst>
          </a:prstGeom>
          <a:solidFill>
            <a:srgbClr val="38a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二、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答辩会议中的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 219"/>
          <p:cNvSpPr/>
          <p:nvPr/>
        </p:nvSpPr>
        <p:spPr>
          <a:xfrm>
            <a:off x="1133640" y="4145040"/>
            <a:ext cx="5222880" cy="749160"/>
          </a:xfrm>
          <a:prstGeom prst="roundRect">
            <a:avLst>
              <a:gd name="adj" fmla="val 50000"/>
            </a:avLst>
          </a:prstGeom>
          <a:solidFill>
            <a:srgbClr val="38a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三、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答辩会议后的材料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标题 1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5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通读论文，熟悉论文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草拟《广东财经大学硕士学位论文答辩决议》（草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标题 3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55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织参加答辩的研究生签到，提醒研究生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拷入电脑，并确认文件是否能正常运行。组织参加答辩的研究抽签决定答辩顺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答辩会议程序交给答辩委员会主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辩会议开始后协助答辩委员会主席组织参加答辩研究生集体宣读《论文原创性声明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7"/>
          <p:cNvGrpSpPr/>
          <p:nvPr/>
        </p:nvGrpSpPr>
        <p:grpSpPr>
          <a:xfrm>
            <a:off x="4665600" y="592200"/>
            <a:ext cx="4521240" cy="6040440"/>
            <a:chOff x="4665600" y="592200"/>
            <a:chExt cx="4521240" cy="6040440"/>
          </a:xfrm>
        </p:grpSpPr>
        <p:pic>
          <p:nvPicPr>
            <p:cNvPr id="486" name="图片 5" descr=""/>
            <p:cNvPicPr/>
            <p:nvPr/>
          </p:nvPicPr>
          <p:blipFill>
            <a:blip r:embed="rId2"/>
            <a:stretch/>
          </p:blipFill>
          <p:spPr>
            <a:xfrm>
              <a:off x="4665600" y="592200"/>
              <a:ext cx="4521240" cy="60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矩形 6"/>
            <p:cNvSpPr/>
            <p:nvPr/>
          </p:nvSpPr>
          <p:spPr>
            <a:xfrm>
              <a:off x="5026320" y="847800"/>
              <a:ext cx="3960360" cy="223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8" name="图片 8" descr=""/>
          <p:cNvPicPr/>
          <p:nvPr/>
        </p:nvPicPr>
        <p:blipFill>
          <a:blip r:embed="rId3"/>
          <a:stretch/>
        </p:blipFill>
        <p:spPr>
          <a:xfrm>
            <a:off x="588960" y="847800"/>
            <a:ext cx="7926480" cy="5148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标题 3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55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628560" y="1507680"/>
            <a:ext cx="78868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辩会议正式开始后，在答辩会议记录上认真记录答辩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有研究生答辩完成后，委员进行闭门会议。分发答辩表决票给各位委员，并简单介绍投票规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投票规则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意毕业并授予硕士学位”票数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票（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票）者，建议授予硕士学位。否则，不建议授予硕士学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意毕业并授予硕士学位”和“同意毕业但不同意授予硕士学位”两者票数之和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票者，同意毕业。否则，不同意毕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他情况则不同意毕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意提醒专家同意毕业并授予学位的答辩成绩应不低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，其他情况应低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1" descr=""/>
          <p:cNvPicPr/>
          <p:nvPr/>
        </p:nvPicPr>
        <p:blipFill>
          <a:blip r:embed="rId2"/>
          <a:stretch/>
        </p:blipFill>
        <p:spPr>
          <a:xfrm>
            <a:off x="5145120" y="1031760"/>
            <a:ext cx="3957480" cy="52927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8"/>
          <p:cNvGrpSpPr/>
          <p:nvPr/>
        </p:nvGrpSpPr>
        <p:grpSpPr>
          <a:xfrm>
            <a:off x="893880" y="1279440"/>
            <a:ext cx="6545160" cy="4897440"/>
            <a:chOff x="893880" y="1279440"/>
            <a:chExt cx="6545160" cy="4897440"/>
          </a:xfrm>
        </p:grpSpPr>
        <p:pic>
          <p:nvPicPr>
            <p:cNvPr id="493" name="图片 2" descr=""/>
            <p:cNvPicPr/>
            <p:nvPr/>
          </p:nvPicPr>
          <p:blipFill>
            <a:blip r:embed="rId3"/>
            <a:stretch/>
          </p:blipFill>
          <p:spPr>
            <a:xfrm rot="16200000">
              <a:off x="1717560" y="455400"/>
              <a:ext cx="4897440" cy="65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矩形 5"/>
            <p:cNvSpPr/>
            <p:nvPr/>
          </p:nvSpPr>
          <p:spPr>
            <a:xfrm>
              <a:off x="2264040" y="1903320"/>
              <a:ext cx="359640" cy="144000"/>
            </a:xfrm>
            <a:prstGeom prst="rect">
              <a:avLst/>
            </a:prstGeom>
            <a:solidFill>
              <a:srgbClr val="31939a"/>
            </a:solidFill>
            <a:ln w="12600">
              <a:solidFill>
                <a:srgbClr val="216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"/>
            <p:cNvSpPr/>
            <p:nvPr/>
          </p:nvSpPr>
          <p:spPr>
            <a:xfrm>
              <a:off x="3136320" y="1903320"/>
              <a:ext cx="504000" cy="75240"/>
            </a:xfrm>
            <a:prstGeom prst="rect">
              <a:avLst/>
            </a:prstGeom>
            <a:solidFill>
              <a:srgbClr val="31939a"/>
            </a:solidFill>
            <a:ln w="12600">
              <a:solidFill>
                <a:srgbClr val="216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7"/>
            <p:cNvSpPr/>
            <p:nvPr/>
          </p:nvSpPr>
          <p:spPr>
            <a:xfrm>
              <a:off x="6091560" y="1797480"/>
              <a:ext cx="359640" cy="215640"/>
            </a:xfrm>
            <a:prstGeom prst="rect">
              <a:avLst/>
            </a:prstGeom>
            <a:solidFill>
              <a:srgbClr val="31939a"/>
            </a:solidFill>
            <a:ln w="12600">
              <a:solidFill>
                <a:srgbClr val="216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标题 3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5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根据答辩委员要求，于答辩中或闭门会议时将学位论文首页分发至各专家签名。（每位同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将《广东财经大学硕士学位论文答辩决议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草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至答辩委员会主席，由答辩主席组织修改。并将空白答辩决议书交答辩委员会委员签名。（注意：答辩决议中，答辩主席有两处签名，请勿遗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整理、核对答辩结果，由主席向各答辩研究生宣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10"/>
          <p:cNvGrpSpPr/>
          <p:nvPr/>
        </p:nvGrpSpPr>
        <p:grpSpPr>
          <a:xfrm>
            <a:off x="4465800" y="901800"/>
            <a:ext cx="4493880" cy="6003720"/>
            <a:chOff x="4465800" y="901800"/>
            <a:chExt cx="4493880" cy="6003720"/>
          </a:xfrm>
        </p:grpSpPr>
        <p:grpSp>
          <p:nvGrpSpPr>
            <p:cNvPr id="500" name="组合 8"/>
            <p:cNvGrpSpPr/>
            <p:nvPr/>
          </p:nvGrpSpPr>
          <p:grpSpPr>
            <a:xfrm>
              <a:off x="4465800" y="901800"/>
              <a:ext cx="4493880" cy="6003720"/>
              <a:chOff x="4465800" y="901800"/>
              <a:chExt cx="4493880" cy="6003720"/>
            </a:xfrm>
          </p:grpSpPr>
          <p:pic>
            <p:nvPicPr>
              <p:cNvPr id="501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4465800" y="901800"/>
                <a:ext cx="4493880" cy="600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矩形 2"/>
              <p:cNvSpPr/>
              <p:nvPr/>
            </p:nvSpPr>
            <p:spPr>
              <a:xfrm>
                <a:off x="5183280" y="5567400"/>
                <a:ext cx="3527640" cy="115128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矩形 9"/>
            <p:cNvSpPr/>
            <p:nvPr/>
          </p:nvSpPr>
          <p:spPr>
            <a:xfrm>
              <a:off x="6982920" y="3551760"/>
              <a:ext cx="791640" cy="1224000"/>
            </a:xfrm>
            <a:prstGeom prst="rect">
              <a:avLst/>
            </a:prstGeom>
            <a:solidFill>
              <a:srgbClr val="31939a"/>
            </a:solidFill>
            <a:ln w="12600">
              <a:solidFill>
                <a:srgbClr val="216b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图片 11" descr=""/>
          <p:cNvPicPr/>
          <p:nvPr/>
        </p:nvPicPr>
        <p:blipFill>
          <a:blip r:embed="rId3"/>
          <a:stretch/>
        </p:blipFill>
        <p:spPr>
          <a:xfrm>
            <a:off x="155520" y="808200"/>
            <a:ext cx="9015480" cy="5475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标题 3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55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555480" y="1690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辩决议模板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段  学位论文选题及主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段  学位论文评语（可结合盲审意见等撰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段  研究生在答辩过程中的表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段  答辩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建议授予学位表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经答辩委员会全体委员投票表决，认为论文达到硕士学位论文水平，通过论文答辩，同意毕业，建议校学位委员会授予公共管理硕士学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意毕业但不建议授予学位表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经答辩委员会全体委员投票表决，认为论文未达到硕士学位论文水平，同意毕业，但不建议校学位委员会授予公共管理硕士学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同意毕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经答辩委员会全体委员投票表决，认为论文未达到硕士毕业论文水平，不同意毕业，不建议校学位委员会授予公共管理硕士学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标题 3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55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555480" y="1690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85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理答辩会议相关材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后向学科秘书提交以下材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位论文表决票（补齐学生个人信息，以学生为单位按答辩顺序整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辩结果汇总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辩结束三天内向学科秘书提交以下材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草案填补全体答辩委员已签名的《广东财经大学学位论文答辩决议》。（以学生为单位按学号顺序整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理完成《广东财经大学学位论文答辩会议记录》（以学生为单位按学号顺序整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04:40:59Z</dcterms:created>
  <dc:creator>gdufepy</dc:creator>
  <dc:description/>
  <dc:language>en-US</dc:language>
  <cp:lastModifiedBy>彭文霞</cp:lastModifiedBy>
  <dcterms:modified xsi:type="dcterms:W3CDTF">2018-09-26T01:58:50Z</dcterms:modified>
  <cp:revision>7</cp:revision>
  <dc:subject/>
  <dc:title>2018年公共管理硕士研究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1</vt:lpwstr>
  </property>
  <property fmtid="{D5CDD505-2E9C-101B-9397-08002B2CF9AE}" pid="3" name="KSORubyTemplateID">
    <vt:lpwstr>8</vt:lpwstr>
  </property>
</Properties>
</file>