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FE8A-377E-4036-BA41-9A1EF6A3A57B}"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0000"/>
              </a:gs>
              <a:gs pos="100000">
                <a:srgbClr val="760000"/>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直接连接符 1031"/>
          <p:cNvSpPr/>
          <p:nvPr/>
        </p:nvSpPr>
        <p:spPr>
          <a:xfrm>
            <a:off x="541440" y="1773360"/>
            <a:ext cx="8064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组合 3081"/>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3083"/>
            <p:cNvGrpSpPr/>
            <p:nvPr/>
          </p:nvGrpSpPr>
          <p:grpSpPr>
            <a:xfrm>
              <a:off x="468360" y="765000"/>
              <a:ext cx="687240" cy="5938920"/>
              <a:chOff x="468360" y="765000"/>
              <a:chExt cx="687240" cy="5938920"/>
            </a:xfrm>
          </p:grpSpPr>
          <p:grpSp>
            <p:nvGrpSpPr>
              <p:cNvPr id="54" name="组合 3084"/>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矩形 3090"/>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矩形 3091"/>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dur="indefinite"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dur="indefinite"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dur="indefinite"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dur="indefinite"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dur="indefinite"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dur="indefinite"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dur="indefinite"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dur="indefinite"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dur="indefinite"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dur="indefinite"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dur="indefinite"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dur="indefinite"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7</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47</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pPr>
            <a:r>
              <a:rPr b="0" lang="zh-CN" sz="3200" spc="-1" strike="noStrike">
                <a:solidFill>
                  <a:srgbClr val="000000"/>
                </a:solidFill>
                <a:latin typeface="方正大黑_GBK"/>
                <a:ea typeface="方正大黑_GBK"/>
              </a:rPr>
              <a:t>凡</a:t>
            </a:r>
            <a:r>
              <a:rPr b="0" i="1" lang="zh-CN" sz="3200" spc="-1" strike="noStrike" u="sng">
                <a:solidFill>
                  <a:srgbClr val="ff0000"/>
                </a:solidFill>
                <a:uFillTx/>
                <a:latin typeface="方正大黑_GBK"/>
                <a:ea typeface="方正大黑_GBK"/>
              </a:rPr>
              <a:t>在校期间受留校察看处分，处分未解除者</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dc:language>en-US</dc:language>
  <cp:lastModifiedBy>GDUF</cp:lastModifiedBy>
  <dcterms:modified xsi:type="dcterms:W3CDTF">2017-06-14T00:58:05Z</dcterms:modified>
  <cp:revision>50</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00</vt:lpwstr>
  </property>
</Properties>
</file>